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F7F-5D0D-4A52-9B7B-16787434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275-9855-495F-8653-E1C3B63E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A871-9DE3-4342-90C5-725714DE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81E6-B564-4687-B70E-E3BBBDA5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C6E3-B2D2-4DE0-A074-7C78B34F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E1D2-CCA7-43E2-BD1B-B755068E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E778-6966-49AA-8BDD-C46F5422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C416-D3E2-4774-986E-E0B97401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ABFD-2330-47B3-BD2B-31AD98C5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CEE5-8D43-40E3-B163-52D24D9A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1B4A-300F-4A01-86E6-09E7EC82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D51-4737-46DE-A289-3532CF0A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025A-FB13-4762-B2FA-2AC88344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500A-CE1C-48DD-AAAF-05C244D6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DB1E-2CC4-432A-917C-009E50AD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90A1-B0D4-4CFF-86D3-5166825A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79D6-6334-438A-8C7D-37D09667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C68-E9D7-4C89-A935-4B08B839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47E-1DF7-4BF6-8E6B-01DE62E2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072-2526-4170-81AF-871F63D0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88B-F57E-4E5C-A036-528DE4BC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49A-6350-4BA0-8CEC-12980E3B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954-BA3A-41F9-AA74-DC7927E2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EBE-FC07-4E35-BEE3-604BEA55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bfbf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bfbf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aca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aca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aca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1CD2-88B6-4453-89F5-2B627437C41D}" type="slidenum">
              <a:rPr b="0" lang="en-US" sz="1200" spc="-1" strike="noStrike">
                <a:solidFill>
                  <a:srgbClr val="acaca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ffc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bfbf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bfbfb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bfbfb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aca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aca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aca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EAD7-5775-4B2E-9986-FF14DB1E6470}" type="slidenum">
              <a:rPr b="0" lang="en-US" sz="1200" spc="-1" strike="noStrike">
                <a:solidFill>
                  <a:srgbClr val="acaca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ecc.mass.edu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 rot="20468400">
            <a:off x="1922400" y="1256040"/>
            <a:ext cx="217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This is</a:t>
            </a:r>
            <a:endParaRPr b="0" lang="en-US" sz="5400" spc="-1" strike="noStrike">
              <a:solidFill>
                <a:srgbClr val="7f7f7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en-US" sz="7200" spc="-1" strike="noStrike">
                <a:solidFill>
                  <a:srgbClr val="ff0066"/>
                </a:solidFill>
                <a:latin typeface="Arial Black"/>
              </a:rPr>
              <a:t>Me!</a:t>
            </a:r>
            <a:endParaRPr b="0" lang="en-US" sz="72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447200" y="5019840"/>
            <a:ext cx="313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 Black"/>
              </a:rPr>
              <a:t>By:  Stacey Morris</a:t>
            </a:r>
            <a:endParaRPr b="0" lang="en-US" sz="2800" spc="-1" strike="noStrike">
              <a:solidFill>
                <a:srgbClr val="7f7f7f"/>
              </a:solidFill>
              <a:latin typeface="Palatino Linotype"/>
            </a:endParaRPr>
          </a:p>
        </p:txBody>
      </p:sp>
      <p:pic>
        <p:nvPicPr>
          <p:cNvPr id="91" name="Picture 2" descr="C:\Users\stacey\AppData\Local\Microsoft\Windows\Temporary Internet Files\Content.IE5\XFTV74HG\MP900438766[1].jpg"/>
          <p:cNvPicPr/>
          <p:nvPr/>
        </p:nvPicPr>
        <p:blipFill>
          <a:blip r:embed="rId1"/>
          <a:stretch/>
        </p:blipFill>
        <p:spPr>
          <a:xfrm>
            <a:off x="4897440" y="2438280"/>
            <a:ext cx="28465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rcRect l="10875" t="0" r="10506" b="4961"/>
          <a:stretch/>
        </p:blipFill>
        <p:spPr>
          <a:xfrm rot="20571000">
            <a:off x="1098360" y="971280"/>
            <a:ext cx="1647720" cy="1495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2895480" y="380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Gothic"/>
              </a:rPr>
              <a:t>My Family</a:t>
            </a:r>
            <a:endParaRPr b="0" lang="en-US" sz="36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3338640" y="1285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entury Gothic"/>
              </a:rPr>
              <a:t>Married to my high school sweetheart for 22 years</a:t>
            </a: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pic>
        <p:nvPicPr>
          <p:cNvPr id="95" name="Picture 2" descr="http://sphotos.xx.fbcdn.net/hphotos-snc6/251209_1881668959572_1176773063_31820354_5075619_n.jpg"/>
          <p:cNvPicPr/>
          <p:nvPr/>
        </p:nvPicPr>
        <p:blipFill>
          <a:blip r:embed="rId2"/>
          <a:srcRect l="28351" t="8520" r="0" b="0"/>
          <a:stretch/>
        </p:blipFill>
        <p:spPr>
          <a:xfrm rot="667200">
            <a:off x="2616120" y="2924280"/>
            <a:ext cx="1548000" cy="269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sphotos.xx.fbcdn.net/hphotos-snc7/61435_1469716781025_1176773063_31156694_519867_n.jpg"/>
          <p:cNvPicPr/>
          <p:nvPr/>
        </p:nvPicPr>
        <p:blipFill>
          <a:blip r:embed="rId3"/>
          <a:srcRect l="-234" t="17445" r="0" b="13303"/>
          <a:stretch/>
        </p:blipFill>
        <p:spPr>
          <a:xfrm rot="20652600">
            <a:off x="5375160" y="2131560"/>
            <a:ext cx="1600200" cy="277344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914400" y="407664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entury Gothic"/>
              </a:rPr>
              <a:t>Kate :18 ,</a:t>
            </a: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entury Gothic"/>
              </a:rPr>
              <a:t>a college freshman</a:t>
            </a: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98" name="TextBox 7"/>
          <p:cNvSpPr/>
          <p:nvPr/>
        </p:nvSpPr>
        <p:spPr>
          <a:xfrm rot="652200">
            <a:off x="2252520" y="5715000"/>
            <a:ext cx="1600200" cy="703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entury Gothic"/>
              </a:rPr>
              <a:t>Aspiring</a:t>
            </a: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entury Gothic"/>
              </a:rPr>
              <a:t>Artist</a:t>
            </a: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7315200" y="28004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entury Gothic"/>
              </a:rPr>
              <a:t>Nick: 14,</a:t>
            </a: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entury Gothic"/>
              </a:rPr>
              <a:t>8</a:t>
            </a:r>
            <a:r>
              <a:rPr b="0" lang="en-US" sz="1800" spc="-1" strike="noStrike" baseline="30000">
                <a:solidFill>
                  <a:srgbClr val="00b050"/>
                </a:solidFill>
                <a:latin typeface="Century Gothic"/>
              </a:rPr>
              <a:t>th</a:t>
            </a:r>
            <a:r>
              <a:rPr b="0" lang="en-US" sz="1800" spc="-1" strike="noStrike">
                <a:solidFill>
                  <a:srgbClr val="00b050"/>
                </a:solidFill>
                <a:latin typeface="Century Gothic"/>
              </a:rPr>
              <a:t> grade</a:t>
            </a:r>
            <a:endParaRPr b="0" lang="en-US" sz="1800" spc="-1" strike="noStrike">
              <a:solidFill>
                <a:srgbClr val="7f7f7f"/>
              </a:solidFill>
              <a:latin typeface="Palatino Linotype"/>
            </a:endParaRPr>
          </a:p>
        </p:txBody>
      </p:sp>
      <p:grpSp>
        <p:nvGrpSpPr>
          <p:cNvPr id="100" name="TextBox 10"/>
          <p:cNvGrpSpPr/>
          <p:nvPr/>
        </p:nvGrpSpPr>
        <p:grpSpPr>
          <a:xfrm>
            <a:off x="5467320" y="4479840"/>
            <a:ext cx="3036960" cy="2133720"/>
            <a:chOff x="5467320" y="4479840"/>
            <a:chExt cx="3036960" cy="2133720"/>
          </a:xfrm>
        </p:grpSpPr>
        <p:pic>
          <p:nvPicPr>
            <p:cNvPr id="101" name="TextBox 10" descr=""/>
            <p:cNvPicPr/>
            <p:nvPr/>
          </p:nvPicPr>
          <p:blipFill>
            <a:blip r:embed="rId4"/>
            <a:stretch/>
          </p:blipFill>
          <p:spPr>
            <a:xfrm>
              <a:off x="5467320" y="4479840"/>
              <a:ext cx="303696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20610000">
              <a:off x="5716440" y="4908600"/>
              <a:ext cx="2533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b050"/>
                  </a:solidFill>
                  <a:latin typeface="Century Gothic"/>
                </a:rPr>
                <a:t>Looking forward to High School and learning to </a:t>
              </a:r>
              <a:r>
                <a:rPr b="0" i="1" lang="en-US" sz="1800" spc="-1" strike="noStrike">
                  <a:solidFill>
                    <a:srgbClr val="00b050"/>
                  </a:solidFill>
                  <a:latin typeface="Century Gothic"/>
                </a:rPr>
                <a:t>be a Marine Biologist</a:t>
              </a:r>
              <a:endParaRPr b="0" lang="en-US" sz="1800" spc="-1" strike="noStrike">
                <a:solidFill>
                  <a:srgbClr val="7f7f7f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3352680" y="457200"/>
            <a:ext cx="2210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Bradley Hand ITC"/>
              </a:rPr>
              <a:t>Hobbies</a:t>
            </a:r>
            <a:endParaRPr b="0" lang="en-US" sz="44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04" name="TextBox 3"/>
          <p:cNvSpPr/>
          <p:nvPr/>
        </p:nvSpPr>
        <p:spPr>
          <a:xfrm rot="20364000">
            <a:off x="986400" y="181116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Bradley Hand ITC"/>
              </a:rPr>
              <a:t>Love to:</a:t>
            </a:r>
            <a:endParaRPr b="0" lang="en-US" sz="36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05" name="TextBox 4"/>
          <p:cNvSpPr/>
          <p:nvPr/>
        </p:nvSpPr>
        <p:spPr>
          <a:xfrm rot="730200">
            <a:off x="4005000" y="2108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Bradley Hand ITC"/>
              </a:rPr>
              <a:t>Spend time with my family</a:t>
            </a:r>
            <a:endParaRPr b="0" lang="en-US" sz="24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06" name="TextBox 5"/>
          <p:cNvSpPr/>
          <p:nvPr/>
        </p:nvSpPr>
        <p:spPr>
          <a:xfrm rot="20715600">
            <a:off x="1979280" y="29793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Bradley Hand ITC"/>
              </a:rPr>
              <a:t>Read books</a:t>
            </a:r>
            <a:endParaRPr b="0" lang="en-US" sz="24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07" name="TextBox 6"/>
          <p:cNvSpPr/>
          <p:nvPr/>
        </p:nvSpPr>
        <p:spPr>
          <a:xfrm rot="21039000">
            <a:off x="3978000" y="3463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Bradley Hand ITC"/>
              </a:rPr>
              <a:t>Shop</a:t>
            </a:r>
            <a:endParaRPr b="0" lang="en-US" sz="24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08" name="TextBox 7"/>
          <p:cNvSpPr/>
          <p:nvPr/>
        </p:nvSpPr>
        <p:spPr>
          <a:xfrm rot="21043800">
            <a:off x="1022040" y="4670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Bradley Hand ITC"/>
              </a:rPr>
              <a:t>Go to the Gym</a:t>
            </a:r>
            <a:endParaRPr b="0" lang="en-US" sz="24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09" name="TextBox 9"/>
          <p:cNvSpPr/>
          <p:nvPr/>
        </p:nvSpPr>
        <p:spPr>
          <a:xfrm rot="747000">
            <a:off x="4618080" y="4767120"/>
            <a:ext cx="41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Bradley Hand ITC"/>
              </a:rPr>
              <a:t>Cooking for family &amp; friends</a:t>
            </a:r>
            <a:endParaRPr b="0" lang="en-US" sz="2400" spc="-1" strike="noStrike">
              <a:solidFill>
                <a:srgbClr val="7f7f7f"/>
              </a:solidFill>
              <a:latin typeface="Palatino Linotype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1"/>
          <a:srcRect l="7244" t="11979" r="7042" b="0"/>
          <a:stretch/>
        </p:blipFill>
        <p:spPr>
          <a:xfrm rot="823800">
            <a:off x="6413040" y="469800"/>
            <a:ext cx="2133720" cy="1643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stacey\AppData\Local\Microsoft\Windows\Temporary Internet Files\Content.IE5\9C14250T\MP900439419[1].jpg"/>
          <p:cNvPicPr/>
          <p:nvPr/>
        </p:nvPicPr>
        <p:blipFill>
          <a:blip r:embed="rId2"/>
          <a:stretch/>
        </p:blipFill>
        <p:spPr>
          <a:xfrm rot="20388000">
            <a:off x="755280" y="2965320"/>
            <a:ext cx="977760" cy="1460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stacey\AppData\Local\Microsoft\Windows\Temporary Internet Files\Content.IE5\XFTV74HG\MC900351636[1].wmf"/>
          <p:cNvPicPr/>
          <p:nvPr/>
        </p:nvPicPr>
        <p:blipFill>
          <a:blip r:embed="rId3"/>
          <a:stretch/>
        </p:blipFill>
        <p:spPr>
          <a:xfrm rot="900600">
            <a:off x="6097680" y="3173040"/>
            <a:ext cx="1204920" cy="13413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1"/>
          <p:cNvSpPr/>
          <p:nvPr/>
        </p:nvSpPr>
        <p:spPr>
          <a:xfrm>
            <a:off x="2684520" y="542304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Bradley Hand ITC"/>
              </a:rPr>
              <a:t>Going to the Beach</a:t>
            </a:r>
            <a:endParaRPr b="0" lang="en-US" sz="2400" spc="-1" strike="noStrike">
              <a:solidFill>
                <a:srgbClr val="7f7f7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extBox 1" descr=""/>
          <p:cNvPicPr/>
          <p:nvPr/>
        </p:nvPicPr>
        <p:blipFill>
          <a:blip r:embed="rId1"/>
          <a:stretch/>
        </p:blipFill>
        <p:spPr>
          <a:xfrm>
            <a:off x="2571840" y="274680"/>
            <a:ext cx="3390840" cy="16462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1627200" y="1905120"/>
            <a:ext cx="556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 Rounded MT Bold"/>
              </a:rPr>
              <a:t>Special Education Paraprofessional for 11 years</a:t>
            </a: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 Rounded MT Bold"/>
              </a:rPr>
              <a:t>Middle School Behavioral Resource Room</a:t>
            </a: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 Rounded MT Bold"/>
              </a:rPr>
              <a:t>PDD Classroom</a:t>
            </a: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 Rounded MT Bold"/>
              </a:rPr>
              <a:t>1:1 for a Visually Impaired Student</a:t>
            </a: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 Rounded MT Bold"/>
              </a:rPr>
              <a:t>1:1 student with Autism</a:t>
            </a: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 Rounded MT Bold"/>
              </a:rPr>
              <a:t>Inclusion Paraprofessional</a:t>
            </a:r>
            <a:endParaRPr b="0" lang="en-US" sz="2000" spc="-1" strike="noStrike">
              <a:solidFill>
                <a:srgbClr val="7f7f7f"/>
              </a:solidFill>
              <a:latin typeface="Palatino Linotype"/>
            </a:endParaRPr>
          </a:p>
        </p:txBody>
      </p:sp>
      <p:pic>
        <p:nvPicPr>
          <p:cNvPr id="116" name="Picture 2" descr="C:\Users\stacey\AppData\Local\Microsoft\Windows\Temporary Internet Files\Content.IE5\9C14250T\MP900439484[1].jpg"/>
          <p:cNvPicPr/>
          <p:nvPr/>
        </p:nvPicPr>
        <p:blipFill>
          <a:blip r:embed="rId2"/>
          <a:stretch/>
        </p:blipFill>
        <p:spPr>
          <a:xfrm rot="20147400">
            <a:off x="6372000" y="4414680"/>
            <a:ext cx="2141280" cy="1433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Users\stacey\AppData\Local\Microsoft\Windows\Temporary Internet Files\Content.IE5\1BWW5PMA\MC900290682[1].wmf"/>
          <p:cNvPicPr/>
          <p:nvPr/>
        </p:nvPicPr>
        <p:blipFill>
          <a:blip r:embed="rId3"/>
          <a:stretch/>
        </p:blipFill>
        <p:spPr>
          <a:xfrm>
            <a:off x="609480" y="5130720"/>
            <a:ext cx="1719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3186360" y="434880"/>
            <a:ext cx="255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ducation</a:t>
            </a:r>
            <a:endParaRPr b="0" lang="en-US" sz="40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19" name="TextBox 2"/>
          <p:cNvSpPr/>
          <p:nvPr/>
        </p:nvSpPr>
        <p:spPr>
          <a:xfrm rot="20938200">
            <a:off x="459360" y="1814040"/>
            <a:ext cx="51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sociates Degree in Elementary Education from Northern Essex Community College</a:t>
            </a:r>
            <a:endParaRPr b="0" lang="en-US" sz="24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20" name="TextBox 3"/>
          <p:cNvSpPr/>
          <p:nvPr/>
        </p:nvSpPr>
        <p:spPr>
          <a:xfrm rot="383400">
            <a:off x="3861000" y="340056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orking towards Bachelors in Elementary Education at Cambridge College </a:t>
            </a:r>
            <a:endParaRPr b="0" lang="en-US" sz="2400" spc="-1" strike="noStrike">
              <a:solidFill>
                <a:srgbClr val="7f7f7f"/>
              </a:solidFill>
              <a:latin typeface="Palatino Linotype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2057400" y="5415120"/>
            <a:ext cx="510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oal is to be an Elementary</a:t>
            </a:r>
            <a:endParaRPr b="0" lang="en-US" sz="2800" spc="-1" strike="noStrike">
              <a:solidFill>
                <a:srgbClr val="7f7f7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pecial Education Teacher </a:t>
            </a:r>
            <a:endParaRPr b="0" lang="en-US" sz="2800" spc="-1" strike="noStrike">
              <a:solidFill>
                <a:srgbClr val="7f7f7f"/>
              </a:solidFill>
              <a:latin typeface="Palatino Linotype"/>
            </a:endParaRPr>
          </a:p>
        </p:txBody>
      </p:sp>
      <p:pic>
        <p:nvPicPr>
          <p:cNvPr id="122" name="Picture 1" descr="Cambridge College Sheild"/>
          <p:cNvPicPr/>
          <p:nvPr/>
        </p:nvPicPr>
        <p:blipFill>
          <a:blip r:embed="rId1"/>
          <a:stretch/>
        </p:blipFill>
        <p:spPr>
          <a:xfrm rot="635400">
            <a:off x="7650000" y="4257720"/>
            <a:ext cx="981360" cy="1239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Northern Essex Community College">
            <a:hlinkClick r:id="rId2"/>
          </p:cNvPr>
          <p:cNvPicPr/>
          <p:nvPr/>
        </p:nvPicPr>
        <p:blipFill>
          <a:blip r:embed="rId3"/>
          <a:stretch/>
        </p:blipFill>
        <p:spPr>
          <a:xfrm rot="20832000">
            <a:off x="423360" y="3571920"/>
            <a:ext cx="15033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0:21:57Z</dcterms:created>
  <dc:creator>stacey</dc:creator>
  <dc:description/>
  <dc:language>en-US</dc:language>
  <cp:lastModifiedBy>ccstudent</cp:lastModifiedBy>
  <dcterms:modified xsi:type="dcterms:W3CDTF">2012-03-25T11:57:00Z</dcterms:modified>
  <cp:revision>15</cp:revision>
  <dc:subject/>
  <dc:title>PowerPoint Presentation</dc:title>
</cp:coreProperties>
</file>